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30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B9D788-FFB8-498F-84D6-B3B33A8A352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74528B-B5C8-4A7C-8E0B-E55EA9CFC26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A066F1-86BB-429B-8423-6EE179363F7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266684-0C0C-419C-921D-81D5C6E920B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3934B6-2B50-4F8F-A98A-F025AFE786B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851C57-A02D-4C0B-8554-C4255675B33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875507-9400-446F-BFC3-E187FCB8D95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i si comprimono le sequenze binarie mediante 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lista degli extra nodes viene ulteriormente compressa, identificando sequenze contigue di ID e si creano intervalli che vengono rappresentati come left,len-2; il left vene codificato come indicato all’inizio (perché può essere negativo) quando si tratta del primo intervallo; gli altri sono codificati come differenza dall’ultimo numero -2, perché altrimenti non ci sarebbe un gap tra due intervalli o tra l’intervallo corrente e un elemento preced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lli che rimangono come singleton, vengono detti residuals, il primo vene codificato rispetto alla source (sempre con la formula che permette di codifiare i negativi), gli altri come differenza rispetto al precedente residual -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9BA286-F9EB-4C1A-8A4A-E4856041DBC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37E-0E05-43C8-98DB-ACBB3314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32A-52EF-40AF-93A7-5847924A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024-E736-4E68-A0C8-E335256E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243-258C-4F4C-B9A3-8E612354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40EE-7A55-434E-AD74-BFCB3BEF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5FD6-640C-45CA-9289-D4291F31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A19C-513E-45DF-AB99-698B7BD4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30FD-328C-4F2B-80A9-D0C835E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FC70-04D2-4707-A326-A5281032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C2BE-6E9E-44A1-AB42-8D89294B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6F36-F523-4BA1-A184-7606B13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A01-400C-45A6-B6BF-EA8BFE1D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3EEC-C330-4FB6-86C5-1EF774D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EC78-0BF5-4CE3-A688-456EC82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5EB3-5F88-4BE9-B537-484E47BB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A9C4-5596-493C-91B9-9CDE7430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20DF-85D7-4521-BFD3-FD324FEE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F3D-618E-48A5-B318-240EAA0D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2C0-CD06-4C3B-A576-E16A95FB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B38-6A9D-492D-9200-2BAC9863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245-32B8-4FE4-9658-4199A8D8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52A-3D01-44DA-A90C-4A967764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8A8-91F2-49D5-A391-51E99AE4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34D-55F3-48CD-BA13-E8C8A2F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3250-CBE8-4AAC-9EFD-FC3C70692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7571-3624-4B8C-A4C9-70638963C1B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hyperlink" Target="http://en.wikipedia.org/wiki/Bulk_synchronous_parallel" TargetMode="Externa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47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50" name="Immagine 3" descr=""/>
          <p:cNvPicPr/>
          <p:nvPr/>
        </p:nvPicPr>
        <p:blipFill>
          <a:blip r:embed="rId2"/>
          <a:stretch/>
        </p:blipFill>
        <p:spPr>
          <a:xfrm>
            <a:off x="49320" y="0"/>
            <a:ext cx="904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53" name="Immagine 3" descr=""/>
          <p:cNvPicPr/>
          <p:nvPr/>
        </p:nvPicPr>
        <p:blipFill>
          <a:blip r:embed="rId2"/>
          <a:stretch/>
        </p:blipFill>
        <p:spPr>
          <a:xfrm>
            <a:off x="44280" y="0"/>
            <a:ext cx="905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56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59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62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65" name="Immagine 3" descr=""/>
          <p:cNvPicPr/>
          <p:nvPr/>
        </p:nvPicPr>
        <p:blipFill>
          <a:blip r:embed="rId2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68" name="Immagine 3" descr=""/>
          <p:cNvPicPr/>
          <p:nvPr/>
        </p:nvPicPr>
        <p:blipFill>
          <a:blip r:embed="rId2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71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74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mall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i.stack.imgur.com/1j5IO.jpg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95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26d4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00" name="Straight Arrow Connector 13"/>
          <p:cNvCxnSpPr>
            <a:stCxn id="97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101" name="Straight Arrow Connector 14"/>
          <p:cNvCxnSpPr>
            <a:stCxn id="96" idx="4"/>
            <a:endCxn id="99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102" name="Straight Arrow Connector 12"/>
          <p:cNvCxnSpPr>
            <a:stCxn id="97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103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Freccia destra 1"/>
          <p:cNvSpPr/>
          <p:nvPr/>
        </p:nvSpPr>
        <p:spPr>
          <a:xfrm rot="10800000">
            <a:off x="7873920" y="5214600"/>
            <a:ext cx="1224000" cy="57636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t needs communication bwt coordinator/crawl threa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,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 need of coordinator and thus commun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wo problems with static assignmen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crawl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ocation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6500880" y="1628640"/>
            <a:ext cx="2643120" cy="27352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735280"/>
              <a:gd name="textAreaBottom" fmla="*/ 2606400 h 2735280"/>
            </a:gdLst>
            <a:ahLst/>
            <a:rect l="textAreaLeft" t="textAreaTop" r="textAreaRight" b="textAreaBottom"/>
            <a:pathLst>
              <a:path w="21600" h="22353">
                <a:moveTo>
                  <a:pt x="3600" y="0"/>
                </a:moveTo>
                <a:arcTo wR="3600" hR="3600" stAng="16200000" swAng="-5400000"/>
                <a:lnTo>
                  <a:pt x="0" y="18753"/>
                </a:lnTo>
                <a:arcTo wR="3600" hR="3600" stAng="10800000" swAng="-5400000"/>
                <a:lnTo>
                  <a:pt x="18000" y="22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of crawlers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rawler x man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ch hash would you use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</a:t>
            </a:r>
            <a:r>
              <a:rPr b="0" i="1" lang="en-US" sz="1600" spc="-1" strike="noStrike">
                <a:solidFill>
                  <a:srgbClr val="ff0000"/>
                </a:solidFill>
                <a:latin typeface="Lucida Sans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rvers mapped to unit circle via hash function ID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K assigned to first server N such that ID(N) ≥ ID(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crawler goes down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new crawler appear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0"/>
          <p:cNvGrpSpPr/>
          <p:nvPr/>
        </p:nvGrpSpPr>
        <p:grpSpPr>
          <a:xfrm>
            <a:off x="4143240" y="4302000"/>
            <a:ext cx="4954320" cy="2286000"/>
            <a:chOff x="4143240" y="4302000"/>
            <a:chExt cx="4954320" cy="2286000"/>
          </a:xfrm>
        </p:grpSpPr>
        <p:sp>
          <p:nvSpPr>
            <p:cNvPr id="185" name="Text Box 8"/>
            <p:cNvSpPr/>
            <p:nvPr/>
          </p:nvSpPr>
          <p:spPr>
            <a:xfrm>
              <a:off x="4318200" y="4319640"/>
              <a:ext cx="412812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between an old server to the new one, only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balanc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Prob item goes to a server is ≤ O(1)/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load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ny server gets  ≤  (I/S) log S items w.h.p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scal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you can copy each server more times..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4143240" y="4302000"/>
              <a:ext cx="4954320" cy="228600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 (+ hadoop)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nutch.apache.org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3803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ed stora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f the Web-grap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5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Rectangle 9"/>
          <p:cNvSpPr/>
          <p:nvPr/>
        </p:nvSpPr>
        <p:spPr>
          <a:xfrm>
            <a:off x="633600" y="6413400"/>
            <a:ext cx="65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This is true also for: out-degree, size of CC and SCC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, most of the hyperlinks from URL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int to other URLs that are in the same host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f URL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lose in lexicographic order, then they tend to share many hyper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5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the page has been parsed/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URL 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uplicat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ocument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ear-duplicat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ocument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-274320">
              <a:lnSpc>
                <a:spcPct val="80000"/>
              </a:lnSpc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me solution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ashing 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5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fter 50 bln pages, we have 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en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over 500 bln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ach URL is at least 1000 bytes on aver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Overall we have about 500.000 Tb (=500 Pb) for just the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e.g.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per URL chec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* 5 * 1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URL-checks =&gt; 80 years/1PC =&gt; 30gg/100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500 bln URL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about 500 Tbit = 50Tb   </a:t>
            </a:r>
            <a:r>
              <a:rPr b="0" i="1" lang="en-US" sz="1600" spc="-1" strike="noStrike">
                <a:solidFill>
                  <a:srgbClr val="333399"/>
                </a:solidFill>
                <a:latin typeface="Lucida Sans"/>
              </a:rPr>
              <a:t>[cfr. 1/1000 hashing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py-lists: Loca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06360" y="3933720"/>
            <a:ext cx="852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most of the hyperlinks from URL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int to other URLs that are in the same host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bout 80%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ts in the same domain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lose to each other in the lexicographically sorted order, and thus they ge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c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ss them via gap-encoding and variable-length representa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py-lists: Locality &amp; Similar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ch bit of the copy-list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ference index is the one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3070080" y="3573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119160" y="3588480"/>
            <a:ext cx="28191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lose in the lexicographic order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y tend to share many hyperlin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5722920" y="115920"/>
            <a:ext cx="3313080" cy="747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eference copy-b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re small (e.g. ≤8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first bit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pecifies the first copy block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ach RLE-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s omitted (we know the length from </a:t>
            </a:r>
            <a:r>
              <a:rPr b="0" i="1" lang="en-GB" sz="2100" spc="-1" strike="noStrike">
                <a:solidFill>
                  <a:srgbClr val="ff0000"/>
                </a:solidFill>
                <a:latin typeface="Arial"/>
              </a:rPr>
              <a:t>Out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5055840" y="4560840"/>
            <a:ext cx="39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Rettangolo arrotondato 1"/>
          <p:cNvSpPr/>
          <p:nvPr/>
        </p:nvSpPr>
        <p:spPr>
          <a:xfrm>
            <a:off x="6948360" y="5805360"/>
            <a:ext cx="2195640" cy="10083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re on extr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des, but not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ere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Rettangolo 2"/>
          <p:cNvSpPr/>
          <p:nvPr/>
        </p:nvSpPr>
        <p:spPr>
          <a:xfrm>
            <a:off x="4284720" y="4629240"/>
            <a:ext cx="1429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AutoShape 19"/>
          <p:cNvSpPr/>
          <p:nvPr/>
        </p:nvSpPr>
        <p:spPr>
          <a:xfrm>
            <a:off x="4788000" y="0"/>
            <a:ext cx="435600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Called WebGraph ≈3 bits/ed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7"/>
          <p:cNvGrpSpPr/>
          <p:nvPr/>
        </p:nvGrpSpPr>
        <p:grpSpPr>
          <a:xfrm>
            <a:off x="1805040" y="3382920"/>
            <a:ext cx="7338960" cy="1054080"/>
            <a:chOff x="1805040" y="3382920"/>
            <a:chExt cx="7338960" cy="1054080"/>
          </a:xfrm>
        </p:grpSpPr>
        <p:pic>
          <p:nvPicPr>
            <p:cNvPr id="252" name="Picture 6" descr=""/>
            <p:cNvPicPr/>
            <p:nvPr/>
          </p:nvPicPr>
          <p:blipFill>
            <a:blip r:embed="rId1"/>
            <a:srcRect l="0" t="0" r="0" b="32384"/>
            <a:stretch/>
          </p:blipFill>
          <p:spPr>
            <a:xfrm>
              <a:off x="1805040" y="3382920"/>
              <a:ext cx="73389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26"/>
            <p:cNvSpPr/>
            <p:nvPr/>
          </p:nvSpPr>
          <p:spPr>
            <a:xfrm>
              <a:off x="8028000" y="3789360"/>
              <a:ext cx="10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tra-nodes:</a:t>
            </a:r>
            <a:r>
              <a:rPr b="0" lang="it-IT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ntervals and Residua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2"/>
          <a:srcRect l="0" t="0" r="0" b="34870"/>
          <a:stretch/>
        </p:blipFill>
        <p:spPr>
          <a:xfrm>
            <a:off x="2771640" y="1557360"/>
            <a:ext cx="619308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-58680" y="185940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0" y="3650400"/>
            <a:ext cx="179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Consecutiv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xtra-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291360" y="399096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5508720" y="5070240"/>
            <a:ext cx="3671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Arial"/>
              </a:rPr>
              <a:t>0 = (15-15)*2  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</a:rPr>
              <a:t>(positiv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 = (23-19)-2  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(jump &gt;= 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77777"/>
                </a:solidFill>
                <a:latin typeface="Arial"/>
              </a:rPr>
              <a:t>600 = (316-16)*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"/>
              </a:rPr>
              <a:t>12 = (22-16)*2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(positiv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3018 = 3041-22-1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differenc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1" name="Group 10"/>
          <p:cNvGrpSpPr/>
          <p:nvPr/>
        </p:nvGrpSpPr>
        <p:grpSpPr>
          <a:xfrm>
            <a:off x="6253200" y="3792600"/>
            <a:ext cx="255600" cy="280800"/>
            <a:chOff x="6253200" y="3792600"/>
            <a:chExt cx="255600" cy="280800"/>
          </a:xfrm>
        </p:grpSpPr>
        <p:sp>
          <p:nvSpPr>
            <p:cNvPr id="262" name="Oval 11"/>
            <p:cNvSpPr/>
            <p:nvPr/>
          </p:nvSpPr>
          <p:spPr>
            <a:xfrm>
              <a:off x="6253200" y="3792600"/>
              <a:ext cx="255600" cy="28080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63" name="Group 14"/>
          <p:cNvGrpSpPr/>
          <p:nvPr/>
        </p:nvGrpSpPr>
        <p:grpSpPr>
          <a:xfrm>
            <a:off x="8245440" y="4008600"/>
            <a:ext cx="430200" cy="280800"/>
            <a:chOff x="8245440" y="4008600"/>
            <a:chExt cx="430200" cy="280800"/>
          </a:xfrm>
        </p:grpSpPr>
        <p:sp>
          <p:nvSpPr>
            <p:cNvPr id="264" name="Oval 15"/>
            <p:cNvSpPr/>
            <p:nvPr/>
          </p:nvSpPr>
          <p:spPr>
            <a:xfrm>
              <a:off x="8245440" y="4008600"/>
              <a:ext cx="430200" cy="2808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5" name="Rectangle 16"/>
          <p:cNvSpPr/>
          <p:nvPr/>
        </p:nvSpPr>
        <p:spPr>
          <a:xfrm>
            <a:off x="0" y="5084640"/>
            <a:ext cx="8631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51000" indent="-336600"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erv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encoded by left extreme and length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. length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decremented by L</a:t>
            </a:r>
            <a:r>
              <a:rPr b="0" lang="en-GB" sz="2100" spc="-1" strike="noStrike" baseline="-33000">
                <a:solidFill>
                  <a:srgbClr val="000000"/>
                </a:solidFill>
                <a:latin typeface="Arial"/>
              </a:rPr>
              <a:t>mi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differences between residuals,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6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 the source (the first)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6156360" y="1557360"/>
            <a:ext cx="2808360" cy="120348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5364000" y="3392640"/>
            <a:ext cx="3780000" cy="104436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AutoShape 19"/>
          <p:cNvSpPr/>
          <p:nvPr/>
        </p:nvSpPr>
        <p:spPr>
          <a:xfrm>
            <a:off x="5867280" y="0"/>
            <a:ext cx="327672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(≈3 bits/ed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9" name="Group 20"/>
          <p:cNvGrpSpPr/>
          <p:nvPr/>
        </p:nvGrpSpPr>
        <p:grpSpPr>
          <a:xfrm>
            <a:off x="6469200" y="3789360"/>
            <a:ext cx="255600" cy="281160"/>
            <a:chOff x="6469200" y="3789360"/>
            <a:chExt cx="255600" cy="281160"/>
          </a:xfrm>
        </p:grpSpPr>
        <p:sp>
          <p:nvSpPr>
            <p:cNvPr id="270" name="Oval 21"/>
            <p:cNvSpPr/>
            <p:nvPr/>
          </p:nvSpPr>
          <p:spPr>
            <a:xfrm>
              <a:off x="6469200" y="378936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1" name="Group 22"/>
          <p:cNvGrpSpPr/>
          <p:nvPr/>
        </p:nvGrpSpPr>
        <p:grpSpPr>
          <a:xfrm>
            <a:off x="6404040" y="1995480"/>
            <a:ext cx="255600" cy="281160"/>
            <a:chOff x="6404040" y="1995480"/>
            <a:chExt cx="255600" cy="281160"/>
          </a:xfrm>
        </p:grpSpPr>
        <p:sp>
          <p:nvSpPr>
            <p:cNvPr id="272" name="Oval 23"/>
            <p:cNvSpPr/>
            <p:nvPr/>
          </p:nvSpPr>
          <p:spPr>
            <a:xfrm>
              <a:off x="640404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3" name="Group 24"/>
          <p:cNvGrpSpPr/>
          <p:nvPr/>
        </p:nvGrpSpPr>
        <p:grpSpPr>
          <a:xfrm>
            <a:off x="7524720" y="1995480"/>
            <a:ext cx="255600" cy="281160"/>
            <a:chOff x="7524720" y="1995480"/>
            <a:chExt cx="255600" cy="281160"/>
          </a:xfrm>
        </p:grpSpPr>
        <p:sp>
          <p:nvSpPr>
            <p:cNvPr id="274" name="Oval 25"/>
            <p:cNvSpPr/>
            <p:nvPr/>
          </p:nvSpPr>
          <p:spPr>
            <a:xfrm>
              <a:off x="752472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8005680" y="4011480"/>
            <a:ext cx="166680" cy="281160"/>
            <a:chOff x="8005680" y="4011480"/>
            <a:chExt cx="166680" cy="281160"/>
          </a:xfrm>
        </p:grpSpPr>
        <p:sp>
          <p:nvSpPr>
            <p:cNvPr id="276" name="Oval 13"/>
            <p:cNvSpPr/>
            <p:nvPr/>
          </p:nvSpPr>
          <p:spPr>
            <a:xfrm>
              <a:off x="8005680" y="4011480"/>
              <a:ext cx="166680" cy="281160"/>
            </a:xfrm>
            <a:prstGeom prst="ellipse">
              <a:avLst/>
            </a:prstGeom>
            <a:noFill/>
            <a:ln w="36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77" name="Oval 8"/>
          <p:cNvSpPr/>
          <p:nvPr/>
        </p:nvSpPr>
        <p:spPr>
          <a:xfrm>
            <a:off x="6372360" y="220968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What about other graphs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7918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A directed graph G = (V,E) not necessarily satisfy Web properties abo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0" name="Picture 2" descr="https://upload.wikimedia.org/wikipedia/commons/thumb/3/3a/GraphDatabase_PropertyGraph.png/308px-GraphDatabase_PropertyGraph.png"/>
          <p:cNvPicPr/>
          <p:nvPr/>
        </p:nvPicPr>
        <p:blipFill>
          <a:blip r:embed="rId1"/>
          <a:stretch/>
        </p:blipFill>
        <p:spPr>
          <a:xfrm>
            <a:off x="5216400" y="2349360"/>
            <a:ext cx="3865680" cy="2735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Neo4j.jpg"/>
          <p:cNvPicPr/>
          <p:nvPr/>
        </p:nvPicPr>
        <p:blipFill>
          <a:blip r:embed="rId2"/>
          <a:stretch/>
        </p:blipFill>
        <p:spPr>
          <a:xfrm>
            <a:off x="662040" y="3249720"/>
            <a:ext cx="419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82" name="Gruppo 5"/>
          <p:cNvGrpSpPr/>
          <p:nvPr/>
        </p:nvGrpSpPr>
        <p:grpSpPr>
          <a:xfrm>
            <a:off x="216000" y="4797360"/>
            <a:ext cx="6588000" cy="2073240"/>
            <a:chOff x="216000" y="4797360"/>
            <a:chExt cx="6588000" cy="2073240"/>
          </a:xfrm>
        </p:grpSpPr>
        <p:sp>
          <p:nvSpPr>
            <p:cNvPr id="283" name="Rettangolo 3"/>
            <p:cNvSpPr/>
            <p:nvPr/>
          </p:nvSpPr>
          <p:spPr>
            <a:xfrm>
              <a:off x="1908000" y="4797360"/>
              <a:ext cx="489600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Apache Giraph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is an iterative graph processing system built for high scalability. It is currently used at Facebook. Giraph originated as the open-source counterpart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Preg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, the graph processing architecture developed at Google (2010). Both systems are inspired by the </a:t>
              </a:r>
              <a:r>
                <a:rPr b="0" lang="en-US" sz="1600" spc="-1" strike="noStrike" u="sng">
                  <a:solidFill>
                    <a:srgbClr val="ff0000"/>
                  </a:solidFill>
                  <a:uFillTx/>
                  <a:latin typeface="Lucida Sans"/>
                  <a:hlinkClick r:id="rId3"/>
                </a:rPr>
                <a:t>Bulk Synchronous Parall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model of distributed computation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84" name="Immagine 4" descr=""/>
            <p:cNvPicPr/>
            <p:nvPr/>
          </p:nvPicPr>
          <p:blipFill>
            <a:blip r:embed="rId4"/>
            <a:srcRect l="532" t="10518" r="80154" b="48107"/>
            <a:stretch/>
          </p:blipFill>
          <p:spPr>
            <a:xfrm>
              <a:off x="216000" y="4797360"/>
              <a:ext cx="1588320" cy="191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the page new?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[Bloom Filter, 1970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reate a binary array B[1,m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ider a family of k hash functions that map a key (URL) to a position (integer)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9" name="Picture 2" descr="https://upload.wikimedia.org/wikipedia/commons/thumb/a/ac/Bloom_filter.svg/649px-Bloom_filter.svg.png"/>
          <p:cNvPicPr/>
          <p:nvPr/>
        </p:nvPicPr>
        <p:blipFill>
          <a:blip r:embed="rId1"/>
          <a:srcRect l="0" t="45726" r="0" b="0"/>
          <a:stretch/>
        </p:blipFill>
        <p:spPr>
          <a:xfrm>
            <a:off x="1187280" y="4365720"/>
            <a:ext cx="6181920" cy="1204920"/>
          </a:xfrm>
          <a:prstGeom prst="rect">
            <a:avLst/>
          </a:prstGeom>
          <a:ln w="0">
            <a:noFill/>
          </a:ln>
        </p:spPr>
      </p:pic>
      <p:sp>
        <p:nvSpPr>
          <p:cNvPr id="110" name="Rounded Rectangle 7"/>
          <p:cNvSpPr/>
          <p:nvPr/>
        </p:nvSpPr>
        <p:spPr>
          <a:xfrm>
            <a:off x="34920" y="6021360"/>
            <a:ext cx="6121440" cy="792360"/>
          </a:xfrm>
          <a:prstGeom prst="roundRect">
            <a:avLst>
              <a:gd name="adj" fmla="val 16667"/>
            </a:avLst>
          </a:prstGeom>
          <a:solidFill>
            <a:srgbClr val="007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ro: No need to store keys, less comple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≈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*X bln bytes </a:t>
            </a:r>
            <a:r>
              <a:rPr b="0" i="1" lang="it-IT" sz="2000" spc="-1" strike="noStrike">
                <a:solidFill>
                  <a:srgbClr val="ffffff"/>
                </a:solidFill>
                <a:latin typeface="Lucida Sans"/>
              </a:rPr>
              <a:t>versus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.000 bln chars/by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ounded Rectangle 6"/>
          <p:cNvSpPr/>
          <p:nvPr/>
        </p:nvSpPr>
        <p:spPr>
          <a:xfrm>
            <a:off x="6300720" y="6021360"/>
            <a:ext cx="2808360" cy="792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Cons: false posi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CasellaDiTesto 1"/>
          <p:cNvSpPr/>
          <p:nvPr/>
        </p:nvSpPr>
        <p:spPr>
          <a:xfrm>
            <a:off x="642240" y="420228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CasellaDiTesto 2"/>
          <p:cNvSpPr/>
          <p:nvPr/>
        </p:nvSpPr>
        <p:spPr>
          <a:xfrm>
            <a:off x="6353280" y="4294080"/>
            <a:ext cx="296640" cy="33732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CasellaDiTesto 9"/>
          <p:cNvSpPr/>
          <p:nvPr/>
        </p:nvSpPr>
        <p:spPr>
          <a:xfrm>
            <a:off x="6062040" y="489888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k=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6" name="Immagine 3" descr=""/>
          <p:cNvPicPr/>
          <p:nvPr/>
        </p:nvPicPr>
        <p:blipFill>
          <a:blip r:embed="rId2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29" name="Immagin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52916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34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928800" y="4508640"/>
            <a:ext cx="407484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74840" y="531036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ounded Rectangle 5"/>
          <p:cNvSpPr/>
          <p:nvPr/>
        </p:nvSpPr>
        <p:spPr>
          <a:xfrm>
            <a:off x="108000" y="5541840"/>
            <a:ext cx="676908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inimize prob. error for k = (m/n) ln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ttangolo arrotondato 1"/>
          <p:cNvSpPr/>
          <p:nvPr/>
        </p:nvSpPr>
        <p:spPr>
          <a:xfrm>
            <a:off x="6516720" y="1752480"/>
            <a:ext cx="2448000" cy="1316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/n = 30 b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= 4 * 10</a:t>
            </a:r>
            <a:r>
              <a:rPr b="0" lang="it-IT" sz="2400" spc="-1" strike="noStrike" baseline="42000">
                <a:solidFill>
                  <a:srgbClr val="ffffff"/>
                </a:solidFill>
                <a:latin typeface="Lucida Sans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00364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788000" y="4437000"/>
            <a:ext cx="39258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= 0.62</a:t>
            </a:r>
            <a:r>
              <a:rPr b="0" lang="it-IT" sz="2400" spc="-1" strike="noStrike" baseline="44000">
                <a:solidFill>
                  <a:srgbClr val="ff0000"/>
                </a:solidFill>
                <a:latin typeface="Lucida Sans"/>
              </a:rPr>
              <a:t>m/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ounded Rectangle 5"/>
          <p:cNvSpPr/>
          <p:nvPr/>
        </p:nvSpPr>
        <p:spPr>
          <a:xfrm>
            <a:off x="179280" y="6381720"/>
            <a:ext cx="856944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dvantageous when (m/n) 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« (key-length in bits + log 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44" name="Immagine 3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09-23T15:33:34Z</dcterms:modified>
  <cp:revision>1248</cp:revision>
  <dc:subject/>
  <dc:title>Web Algorithmics</dc:title>
</cp:coreProperties>
</file>